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000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8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44280"/>
            <a:ext cx="78469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caling Dispersion Processes in Surcharged Manholes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rcRect l="4685" t="0" r="26559" b="10557"/>
          <a:stretch/>
        </p:blipFill>
        <p:spPr>
          <a:xfrm>
            <a:off x="7236000" y="5877000"/>
            <a:ext cx="1908000" cy="98100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-3240" y="6005520"/>
            <a:ext cx="9147240" cy="781200"/>
            <a:chOff x="-3240" y="6005520"/>
            <a:chExt cx="9147240" cy="781200"/>
          </a:xfrm>
        </p:grpSpPr>
        <p:sp>
          <p:nvSpPr>
            <p:cNvPr id="42" name=""/>
            <p:cNvSpPr/>
            <p:nvPr/>
          </p:nvSpPr>
          <p:spPr>
            <a:xfrm>
              <a:off x="0" y="600552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hD Student: S. La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3240" y="63878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Supervisors: V. Stovin and I. Guym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547640" y="2708280"/>
            <a:ext cx="66247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aser Induced Fluorescence Video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 Surcharge (Surcharge = 30 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Surcharge (Surcharge = 80 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88960" y="4443480"/>
            <a:ext cx="2592360" cy="2081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Low Surcharge (Surcharge = 30 mm)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00000" y="1384200"/>
            <a:ext cx="7786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entral Vertical Plane (CVP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ft Vertical Plane (LVP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ight Vertical Plane (RVP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entral Horizontal Plane (CHP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id Surcharge Horizontal Plane (MSHP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188080" y="5059440"/>
            <a:ext cx="1162080" cy="356760"/>
            <a:chOff x="2188080" y="5059440"/>
            <a:chExt cx="1162080" cy="356760"/>
          </a:xfrm>
        </p:grpSpPr>
        <p:sp>
          <p:nvSpPr>
            <p:cNvPr id="49" name=""/>
            <p:cNvSpPr/>
            <p:nvPr/>
          </p:nvSpPr>
          <p:spPr>
            <a:xfrm rot="10800000">
              <a:off x="2190600" y="5324400"/>
              <a:ext cx="1109520" cy="91800"/>
            </a:xfrm>
            <a:custGeom>
              <a:avLst/>
              <a:gdLst/>
              <a:ahLst/>
              <a:rect l="l" t="t" r="r" b="b"/>
              <a:pathLst>
                <a:path w="9666" h="800">
                  <a:moveTo>
                    <a:pt x="66" y="333"/>
                  </a:moveTo>
                  <a:lnTo>
                    <a:pt x="9000" y="333"/>
                  </a:lnTo>
                  <a:cubicBezTo>
                    <a:pt x="9037" y="333"/>
                    <a:pt x="9066" y="363"/>
                    <a:pt x="9066" y="400"/>
                  </a:cubicBezTo>
                  <a:cubicBezTo>
                    <a:pt x="9066" y="437"/>
                    <a:pt x="9037" y="467"/>
                    <a:pt x="9000" y="467"/>
                  </a:cubicBezTo>
                  <a:lnTo>
                    <a:pt x="66" y="467"/>
                  </a:lnTo>
                  <a:cubicBezTo>
                    <a:pt x="30" y="467"/>
                    <a:pt x="0" y="437"/>
                    <a:pt x="0" y="400"/>
                  </a:cubicBezTo>
                  <a:cubicBezTo>
                    <a:pt x="0" y="363"/>
                    <a:pt x="30" y="333"/>
                    <a:pt x="66" y="333"/>
                  </a:cubicBezTo>
                  <a:close/>
                  <a:moveTo>
                    <a:pt x="8866" y="0"/>
                  </a:moveTo>
                  <a:lnTo>
                    <a:pt x="9666" y="400"/>
                  </a:lnTo>
                  <a:lnTo>
                    <a:pt x="8866" y="800"/>
                  </a:lnTo>
                  <a:lnTo>
                    <a:pt x="886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88080" y="505944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Flow Direc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606680" y="5000760"/>
            <a:ext cx="2338200" cy="963360"/>
            <a:chOff x="1606680" y="5000760"/>
            <a:chExt cx="2338200" cy="963360"/>
          </a:xfrm>
        </p:grpSpPr>
        <p:sp>
          <p:nvSpPr>
            <p:cNvPr id="52" name=""/>
            <p:cNvSpPr/>
            <p:nvPr/>
          </p:nvSpPr>
          <p:spPr>
            <a:xfrm>
              <a:off x="1606680" y="5481720"/>
              <a:ext cx="2338200" cy="144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46160" y="5000760"/>
              <a:ext cx="1640880" cy="144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35000" y="5962680"/>
              <a:ext cx="1652040" cy="144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57400" y="45957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14720" y="5348160"/>
            <a:ext cx="37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V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55920" y="53989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9560" y="48942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59040" y="58690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94080" y="55720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91960" y="4365720"/>
            <a:ext cx="79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Plan Vie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13040" y="582624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V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20960" y="4869000"/>
            <a:ext cx="37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V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14800" y="4508640"/>
            <a:ext cx="2556000" cy="2054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267160" y="4548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5960" y="61610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86360" y="5430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38680" y="58467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85080" y="4748040"/>
            <a:ext cx="32076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573760" y="47750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135400" y="5661000"/>
            <a:ext cx="2292480" cy="720720"/>
            <a:chOff x="5135400" y="5661000"/>
            <a:chExt cx="2292480" cy="720720"/>
          </a:xfrm>
        </p:grpSpPr>
        <p:sp>
          <p:nvSpPr>
            <p:cNvPr id="72" name=""/>
            <p:cNvSpPr/>
            <p:nvPr/>
          </p:nvSpPr>
          <p:spPr>
            <a:xfrm>
              <a:off x="5135400" y="6380280"/>
              <a:ext cx="2292480" cy="1440"/>
            </a:xfrm>
            <a:prstGeom prst="line">
              <a:avLst/>
            </a:prstGeom>
            <a:ln w="33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43480" y="5661000"/>
              <a:ext cx="1855800" cy="1440"/>
            </a:xfrm>
            <a:prstGeom prst="line">
              <a:avLst/>
            </a:prstGeom>
            <a:ln w="33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 rot="10800000">
            <a:off x="5722560" y="6173640"/>
            <a:ext cx="1087560" cy="90720"/>
          </a:xfrm>
          <a:custGeom>
            <a:avLst/>
            <a:gdLst/>
            <a:ahLst/>
            <a:rect l="l" t="t" r="r" b="b"/>
            <a:pathLst>
              <a:path w="9667" h="800">
                <a:moveTo>
                  <a:pt x="67" y="334"/>
                </a:moveTo>
                <a:lnTo>
                  <a:pt x="9000" y="334"/>
                </a:lnTo>
                <a:cubicBezTo>
                  <a:pt x="9037" y="334"/>
                  <a:pt x="9067" y="364"/>
                  <a:pt x="9067" y="400"/>
                </a:cubicBezTo>
                <a:cubicBezTo>
                  <a:pt x="9067" y="437"/>
                  <a:pt x="9037" y="467"/>
                  <a:pt x="9000" y="467"/>
                </a:cubicBezTo>
                <a:lnTo>
                  <a:pt x="67" y="467"/>
                </a:lnTo>
                <a:cubicBezTo>
                  <a:pt x="30" y="467"/>
                  <a:pt x="0" y="437"/>
                  <a:pt x="0" y="400"/>
                </a:cubicBezTo>
                <a:cubicBezTo>
                  <a:pt x="0" y="364"/>
                  <a:pt x="30" y="334"/>
                  <a:pt x="67" y="334"/>
                </a:cubicBezTo>
                <a:close/>
                <a:moveTo>
                  <a:pt x="8867" y="0"/>
                </a:moveTo>
                <a:lnTo>
                  <a:pt x="9667" y="400"/>
                </a:lnTo>
                <a:lnTo>
                  <a:pt x="8867" y="800"/>
                </a:lnTo>
                <a:lnTo>
                  <a:pt x="886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03120" y="5864400"/>
            <a:ext cx="1162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low Dir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4208400"/>
            <a:ext cx="86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Side Elevation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24720" y="6249960"/>
            <a:ext cx="37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H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21680" y="5530680"/>
            <a:ext cx="52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MSH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88960" y="4443480"/>
            <a:ext cx="2592360" cy="20811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High Surcharge (Surcharge = 80 mm)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1384200"/>
            <a:ext cx="7786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entral Vertical Plane (CVP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ft Vertical Plane (LVP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ight Vertical Plane (RVP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entral Horizontal Plane (CHP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id Surcharge Horizontal Plane (MSHP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188080" y="5059440"/>
            <a:ext cx="1162080" cy="356760"/>
            <a:chOff x="2188080" y="5059440"/>
            <a:chExt cx="1162080" cy="356760"/>
          </a:xfrm>
        </p:grpSpPr>
        <p:sp>
          <p:nvSpPr>
            <p:cNvPr id="83" name=""/>
            <p:cNvSpPr/>
            <p:nvPr/>
          </p:nvSpPr>
          <p:spPr>
            <a:xfrm rot="10800000">
              <a:off x="2190600" y="5324400"/>
              <a:ext cx="1109520" cy="91800"/>
            </a:xfrm>
            <a:custGeom>
              <a:avLst/>
              <a:gdLst/>
              <a:ahLst/>
              <a:rect l="l" t="t" r="r" b="b"/>
              <a:pathLst>
                <a:path w="9666" h="800">
                  <a:moveTo>
                    <a:pt x="66" y="333"/>
                  </a:moveTo>
                  <a:lnTo>
                    <a:pt x="9000" y="333"/>
                  </a:lnTo>
                  <a:cubicBezTo>
                    <a:pt x="9037" y="333"/>
                    <a:pt x="9066" y="363"/>
                    <a:pt x="9066" y="400"/>
                  </a:cubicBezTo>
                  <a:cubicBezTo>
                    <a:pt x="9066" y="437"/>
                    <a:pt x="9037" y="467"/>
                    <a:pt x="9000" y="467"/>
                  </a:cubicBezTo>
                  <a:lnTo>
                    <a:pt x="66" y="467"/>
                  </a:lnTo>
                  <a:cubicBezTo>
                    <a:pt x="30" y="467"/>
                    <a:pt x="0" y="437"/>
                    <a:pt x="0" y="400"/>
                  </a:cubicBezTo>
                  <a:cubicBezTo>
                    <a:pt x="0" y="363"/>
                    <a:pt x="30" y="333"/>
                    <a:pt x="66" y="333"/>
                  </a:cubicBezTo>
                  <a:close/>
                  <a:moveTo>
                    <a:pt x="8866" y="0"/>
                  </a:moveTo>
                  <a:lnTo>
                    <a:pt x="9666" y="400"/>
                  </a:lnTo>
                  <a:lnTo>
                    <a:pt x="8866" y="800"/>
                  </a:lnTo>
                  <a:lnTo>
                    <a:pt x="886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88080" y="505944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Flow Direc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606680" y="5000760"/>
            <a:ext cx="2338200" cy="963360"/>
            <a:chOff x="1606680" y="5000760"/>
            <a:chExt cx="2338200" cy="963360"/>
          </a:xfrm>
        </p:grpSpPr>
        <p:sp>
          <p:nvSpPr>
            <p:cNvPr id="86" name=""/>
            <p:cNvSpPr/>
            <p:nvPr/>
          </p:nvSpPr>
          <p:spPr>
            <a:xfrm>
              <a:off x="1606680" y="5481720"/>
              <a:ext cx="2338200" cy="144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46160" y="5000760"/>
              <a:ext cx="1640880" cy="144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35000" y="5962680"/>
              <a:ext cx="1652040" cy="144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157400" y="45957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14720" y="5348160"/>
            <a:ext cx="37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V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55920" y="53989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79560" y="48942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59040" y="58690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94080" y="55720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91960" y="4365720"/>
            <a:ext cx="79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Plan Vie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13040" y="582624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V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20960" y="4869000"/>
            <a:ext cx="37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V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14800" y="4508640"/>
            <a:ext cx="2556000" cy="2054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67160" y="4548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5960" y="61610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86360" y="5430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38680" y="58467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5080" y="4748040"/>
            <a:ext cx="32076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73760" y="47750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135400" y="5661000"/>
            <a:ext cx="2292480" cy="720720"/>
            <a:chOff x="5135400" y="5661000"/>
            <a:chExt cx="2292480" cy="720720"/>
          </a:xfrm>
        </p:grpSpPr>
        <p:sp>
          <p:nvSpPr>
            <p:cNvPr id="106" name=""/>
            <p:cNvSpPr/>
            <p:nvPr/>
          </p:nvSpPr>
          <p:spPr>
            <a:xfrm>
              <a:off x="5135400" y="6380280"/>
              <a:ext cx="2292480" cy="1440"/>
            </a:xfrm>
            <a:prstGeom prst="line">
              <a:avLst/>
            </a:prstGeom>
            <a:ln w="33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43480" y="5661000"/>
              <a:ext cx="1855800" cy="1440"/>
            </a:xfrm>
            <a:prstGeom prst="line">
              <a:avLst/>
            </a:prstGeom>
            <a:ln w="33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 rot="10800000">
            <a:off x="5722560" y="6173640"/>
            <a:ext cx="1087560" cy="90720"/>
          </a:xfrm>
          <a:custGeom>
            <a:avLst/>
            <a:gdLst/>
            <a:ahLst/>
            <a:rect l="l" t="t" r="r" b="b"/>
            <a:pathLst>
              <a:path w="9667" h="800">
                <a:moveTo>
                  <a:pt x="67" y="334"/>
                </a:moveTo>
                <a:lnTo>
                  <a:pt x="9000" y="334"/>
                </a:lnTo>
                <a:cubicBezTo>
                  <a:pt x="9037" y="334"/>
                  <a:pt x="9067" y="364"/>
                  <a:pt x="9067" y="400"/>
                </a:cubicBezTo>
                <a:cubicBezTo>
                  <a:pt x="9067" y="437"/>
                  <a:pt x="9037" y="467"/>
                  <a:pt x="9000" y="467"/>
                </a:cubicBezTo>
                <a:lnTo>
                  <a:pt x="67" y="467"/>
                </a:lnTo>
                <a:cubicBezTo>
                  <a:pt x="30" y="467"/>
                  <a:pt x="0" y="437"/>
                  <a:pt x="0" y="400"/>
                </a:cubicBezTo>
                <a:cubicBezTo>
                  <a:pt x="0" y="364"/>
                  <a:pt x="30" y="334"/>
                  <a:pt x="67" y="334"/>
                </a:cubicBezTo>
                <a:close/>
                <a:moveTo>
                  <a:pt x="8867" y="0"/>
                </a:moveTo>
                <a:lnTo>
                  <a:pt x="9667" y="400"/>
                </a:lnTo>
                <a:lnTo>
                  <a:pt x="8867" y="800"/>
                </a:lnTo>
                <a:lnTo>
                  <a:pt x="886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03120" y="5864400"/>
            <a:ext cx="1162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low Dir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08720" y="4208400"/>
            <a:ext cx="86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Side Elevation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24720" y="6249960"/>
            <a:ext cx="37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H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21680" y="5530680"/>
            <a:ext cx="52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MSH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4:49:22Z</dcterms:created>
  <dc:creator>cip03sdl</dc:creator>
  <dc:description/>
  <dc:language>en-US</dc:language>
  <cp:lastModifiedBy>cip03sdl</cp:lastModifiedBy>
  <dcterms:modified xsi:type="dcterms:W3CDTF">2007-12-21T12:24:24Z</dcterms:modified>
  <cp:revision>256</cp:revision>
  <dc:subject/>
  <dc:title>Slide 1</dc:title>
</cp:coreProperties>
</file>