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5CF21-F20A-46C2-99A8-AECE2A2E9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893B8-4CDE-47A1-8B03-EB517FE0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898A1-DC16-4E3D-AE6D-F221749DF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941C-462E-426B-9AE4-57B784ACD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C378C-6B88-4688-A803-74B002EF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E69D2-4AB3-466A-8C35-E940EE30C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C060-9481-476B-8844-E86213A6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5F591-6752-4C84-8D03-8D728E43C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A8DA-A381-4D60-9FC4-B9A579993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030FD-64BC-481F-A85E-0CAF462F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31EB-6433-46F7-854D-A34C46FED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B9D8-D159-4515-81BC-88740D313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4B0D-0474-4A86-9629-34ECDCAB18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8920" y="404640"/>
            <a:ext cx="8713800" cy="645336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ذوبان الملح في الماء، فيزيائ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ايش؟</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 ذوبان الملح في الماء فيزيائ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تقدري ترجعيه؟</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طمة: ايوا صح (مساندة زميلتها أنه فيزيائي) لكن سمر تظن أنها توافقها أنه لا يمكن ارجاعه وتسجله في الورقة على أن كيميائ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ما كيميائي، فيزيائ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كيف ترجعيه لحالته؟</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تخليه في الشمس (تضحك) يتبخر الماء</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كن سمر لا تعجبها الاجابة ولا تغيره الى فيزيائي فينتقلن الى مثال آخر لكن الباحثة تطلب منهن العودة لمناقشة مثال الملح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79280" y="260280"/>
            <a:ext cx="8785440" cy="633744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يعني هنا في الماي تغير كيميائي؟ ط</a:t>
            </a:r>
            <a:r>
              <a:rPr b="0" lang="ar-OM" sz="2400" spc="-1" strike="noStrike">
                <a:solidFill>
                  <a:srgbClr val="000000"/>
                </a:solidFill>
                <a:latin typeface="Arial"/>
              </a:rPr>
              <a:t>3</a:t>
            </a:r>
            <a:r>
              <a:rPr b="0" lang="ar-OM" sz="2400" spc="-1" strike="noStrike">
                <a:solidFill>
                  <a:srgbClr val="000000"/>
                </a:solidFill>
                <a:latin typeface="Arial"/>
              </a:rPr>
              <a:t>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3</a:t>
            </a:r>
            <a:r>
              <a:rPr b="0" lang="ar-OM" sz="2400" spc="-1" strike="noStrike">
                <a:solidFill>
                  <a:srgbClr val="000000"/>
                </a:solidFill>
                <a:latin typeface="Arial"/>
              </a:rPr>
              <a:t>: أنا أقول فيزيائي، لانه تبخر الماي خاصية فيزيائية ، يعني التبخر والانصهار لان يمكن تكثيف هذا الماي بخار الماي الناتج من تبخر الماي يتحول الى ماء مرة أخرى فيمكن اعادته..</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بس هم يقولوا أنه فيه فقاعات وظهور الفقاعات دليل ع تغير كيميائي..</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3</a:t>
            </a:r>
            <a:r>
              <a:rPr b="0" lang="ar-OM" sz="2400" spc="-1" strike="noStrike">
                <a:solidFill>
                  <a:srgbClr val="000000"/>
                </a:solidFill>
                <a:latin typeface="Arial"/>
              </a:rPr>
              <a:t>: هو دليل على احتمال تغير كيميائي اذا كان تغير كيميائي غير ملاحظ، لكن هو يعني أصلا هذا الماء..التغير الكيميائي لا يمكن ارجاع المادة الى حالتها الاصل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2</a:t>
            </a:r>
            <a:r>
              <a:rPr b="0" lang="ar-OM" sz="2400" spc="-1" strike="noStrike">
                <a:solidFill>
                  <a:srgbClr val="000000"/>
                </a:solidFill>
                <a:latin typeface="Arial"/>
              </a:rPr>
              <a:t>: لا أستاذة، احنا نقصد التغير الكيميائي اللي حدث في الماي هو نتيجة التغير الكيميائي اللي يحدث في البيضة الفقاعات، لكن طبعا هو الماي يتبخر، يعني..</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كيف اللي يحدث ف الماي هو نتيجة للي يحدث في البيض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2</a:t>
            </a:r>
            <a:r>
              <a:rPr b="0" lang="ar-OM" sz="2400" spc="-1" strike="noStrike">
                <a:solidFill>
                  <a:srgbClr val="000000"/>
                </a:solidFill>
                <a:latin typeface="Arial"/>
              </a:rPr>
              <a:t>: ايوا لان البيضة نتيجة التغير الكيميائي... لان البيضة في الماي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يعني هل ظهرت الفقاعات في الماي بسبب وجود البيض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ابتهال: لا، بسبب وجود تغير كيميائي في البيضة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ايوا، يعني ظهرت الفقاعات بسبب التغير الكيميائي في البيضة؟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ابتهال: يعني ايوا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هاجر: هو تغير فيزيائي لان تبخر الماء فيزيائي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1</a:t>
            </a:r>
            <a:r>
              <a:rPr b="0" lang="ar-OM" sz="2400" spc="-1" strike="noStrike">
                <a:solidFill>
                  <a:srgbClr val="000000"/>
                </a:solidFill>
                <a:latin typeface="Arial"/>
              </a:rPr>
              <a:t>: أنا أقول حدثت الفقاعات بسبب انه الماء ارتفعت درجة حرارته فتفاعل مع البيضة</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يعني نتيجة تفاعل البيضة مع الماي بسبب ارتفاع درجة الحرارة تصاعدت الفقاعات؟</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1</a:t>
            </a:r>
            <a:r>
              <a:rPr b="0" lang="ar-OM" sz="2400" spc="-1" strike="noStrike">
                <a:solidFill>
                  <a:srgbClr val="000000"/>
                </a:solidFill>
                <a:latin typeface="Arial"/>
              </a:rPr>
              <a:t>: ايوا </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وظهور الفقاعات دليل على تغير كيميائي؟</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نى: ايوا</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تـأكيد من ط</a:t>
            </a:r>
            <a:r>
              <a:rPr b="0" lang="ar-OM" sz="2400" spc="-1" strike="noStrike">
                <a:solidFill>
                  <a:srgbClr val="000000"/>
                </a:solidFill>
                <a:latin typeface="Arial"/>
              </a:rPr>
              <a:t>1</a:t>
            </a:r>
            <a:r>
              <a:rPr b="0" lang="ar-OM" sz="2400" spc="-1" strike="noStrike">
                <a:solidFill>
                  <a:srgbClr val="000000"/>
                </a:solidFill>
                <a:latin typeface="Arial"/>
              </a:rPr>
              <a:t> وط</a:t>
            </a:r>
            <a:r>
              <a:rPr b="0" lang="ar-OM" sz="2400" spc="-1" strike="noStrike">
                <a:solidFill>
                  <a:srgbClr val="000000"/>
                </a:solidFill>
                <a:latin typeface="Arial"/>
              </a:rPr>
              <a:t>2</a:t>
            </a:r>
            <a:r>
              <a:rPr b="0" lang="ar-OM" sz="2400" spc="-1" strike="noStrike">
                <a:solidFill>
                  <a:srgbClr val="000000"/>
                </a:solidFill>
                <a:latin typeface="Arial"/>
              </a:rPr>
              <a:t> لهذه النقطة)</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ها ط</a:t>
            </a:r>
            <a:r>
              <a:rPr b="0" lang="ar-OM" sz="2400" spc="-1" strike="noStrike">
                <a:solidFill>
                  <a:srgbClr val="000000"/>
                </a:solidFill>
                <a:latin typeface="Arial"/>
              </a:rPr>
              <a:t>4</a:t>
            </a:r>
            <a:r>
              <a:rPr b="0" lang="ar-OM" sz="2400" spc="-1" strike="noStrike">
                <a:solidFill>
                  <a:srgbClr val="000000"/>
                </a:solidFill>
                <a:latin typeface="Arial"/>
              </a:rPr>
              <a:t>؟</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4</a:t>
            </a:r>
            <a:r>
              <a:rPr b="0" lang="ar-OM" sz="2400" spc="-1" strike="noStrike">
                <a:solidFill>
                  <a:srgbClr val="000000"/>
                </a:solidFill>
                <a:latin typeface="Arial"/>
              </a:rPr>
              <a:t>: هو تبخر الماي تغير فيزيائي، الفقاعات هي تغير كيميائي</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نزين، ايش هذي الفقاعات داخلها؟ خاصة أنه أربعة منكم قايلين تغير كيميائي </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ط: هواء</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ايش يعني هواء، ايش صيغته الكيميائية؟</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ابتسامة وتردد)</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ابتهال: ترا هو البيص فيه بروتين، وحدث له انقلاب من سائل لصلب، فيمكن يعني هو ..هوا يعني داخل</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60" y="188640"/>
            <a:ext cx="8893080" cy="6669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طمة : ايوا صح ذوبان الملح فيزيائ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لحظة (تفكر صامتة لفترة) يذوب الملح في الماء، يذوب بذوب يذوب، اذا حطيناه في الشمس ما يتكون معانا راسب ويتكون..</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ذاري: يبقى الماء..</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لا يبقى الملح. يعني يتكون معانا راسب، وتكون الراسب ما معناه أنه تغير كيميائي؟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ماء: يعني رجع</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كيف يرجع؟</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وسمر: تغير فيزيائ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كيميائ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ذاري: فيزيائي</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78920" y="260280"/>
            <a:ext cx="8713800" cy="640872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التغير الكيميائي اللي في الغازات</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لزيت، الزيت يكون ذاك الحين نظيف، لما تسويه يكون مرة غير</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ماء: يعني الزيت مع ايش؟</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لزيت والسمك</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ذاري: الزيت والماي (يضحكن)</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يوا. الزيت والماي. يوم الزيت تسوي فيه ماي يسوي فقاعات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سماء: نزين مهو يحصل، تغير ف درجة الحرارة؟ تغير ايش؟</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تتغير درجة حرارته. يجي بارد</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لالا. أول تغير ف درجة الحرارة وتكون غازات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وتغير في اللون وتكون رواسب.</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سماء: مو يعني</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كتبي زيت. زيت. عادي زيت (أسماء تكتب)</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وماء</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زيت وماء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يتكون معنا فقاعات.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تكون فقاعات، راسب، تغير ف درجة الحرارة.. أسماء تكتب وتتساءل: يتكون غاز؟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نزين ما في غاز (تأخذ الدفتر وتمسح الغاز)</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كما ما قلتي. يوم يجلس يطشب</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ذاري: ما يسوي هوا لما نحط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تكون فقاعات وتغير اللون (فاطمة مسحت الغاز لتضع تكون فقاعا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سماء: ما يتغير اللون، مهو يغيره؟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ذاري: ما يتغي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تكون راسب وتكون فقاعات (تقرأ الذي كتبته) مهو بعد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رح: نزين. تغير ف درجة الحرارة.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 أنا سؤالي عن اللي جالس يحصل للبيض والما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الفقاعات تغير فيزيائ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الفقاعات نفسها؟</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لا يوم يتبخر هذا تغيرفيزيائ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لا كيميائ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ليش كيميائ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لانها تتبخر، كانت سائلة وبعدين تحولت الى غاز</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لأ.. تتحول من حالة لحالة وبعدين أنا اقدر أرجعها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ذاري واسماء: ايوا صح</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يعني تغير فيزيائ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نزين فاطمة انتي ليش تقولي تغير كيميائي؟</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نه تحول</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ما نتجت مادة جديدة ونقدر نرجعه</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كيف؟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ذاري: نكثفه</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79280" y="189000"/>
            <a:ext cx="8964720" cy="6480000"/>
          </a:xfrm>
          <a:prstGeom prst="rect">
            <a:avLst/>
          </a:prstGeom>
          <a:noFill/>
          <a:ln w="0">
            <a:noFill/>
          </a:ln>
        </p:spPr>
        <p:txBody>
          <a:bodyPr lIns="90000" rIns="90000" tIns="46800" bIns="46800" anchor="t">
            <a:normAutofit fontScale="99000"/>
          </a:bodyPr>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سؤال فاطمة انه صار بخار فكيف نرجعه؟</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يوا كيف نرجعه؟ </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حصل نقاش حول طريقة ارجاع البخار الى ماء، ولا تتفق الجموعة، لكن كل طرف يصر على رأيه حول نوع التغيير. لكن الحيرة تتملكهن ويطلبن ساعدة الباحثة. </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ليش انتي مصرة انه كيميائي؟ (موجهة كلامها لفاطمة)</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لانا ما يصلح نرجعه لحالته</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نزين ما لازم التغير الفيزيائي كل شي كل شي نقدر نرجعه. قالت الاستاذة في اشياء ممكن نرجعها وفي أشياء ما ممكن. مثل ما قلتلش يوم نشرخ الورقة أقدر أرجعها. يمكن أرجعها بتيب. </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سماء: صح</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نزين فيزيائي</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ردي على وجهة نظر سمر</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يعني اذا شلنا التيب ما تفرع مرة الورقة</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تتفرع</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نزين</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بس ما تكونت مادة جديدة عندنا</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انتي ايش مفهومك غن التغير الكيميائي والفيزيائي؟</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ذا كان كيميائي ما يصلح نرجعه لحالته لكن اذا فيزيائي يمكن نرجعه</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يمكن يمكن. ما قلتي لازم نرجعه، قلتي يمكن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يوا يعني يمكن نرجعه</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يمكن بس ما </a:t>
            </a:r>
            <a:r>
              <a:rPr b="0" lang="ar-SA" sz="2800" spc="-1" strike="noStrike">
                <a:solidFill>
                  <a:srgbClr val="000000"/>
                </a:solidFill>
                <a:latin typeface="Arial"/>
              </a:rPr>
              <a:t>100</a:t>
            </a:r>
            <a:r>
              <a:rPr b="0" lang="ar-SA" sz="2800" spc="-1" strike="noStrike">
                <a:solidFill>
                  <a:srgbClr val="000000"/>
                </a:solidFill>
                <a:latin typeface="Arial"/>
              </a:rPr>
              <a:t>%</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 سمر تقول يمكن يعني ما لازم، ها فاطمة؟</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لكيميائي نوبة يمكن نرجعه</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الكيميائي ما ممكن نرجعه</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ذاري: الكيميائي ما يرجع</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مر: تتكون عندنا مادة جديدة</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طمة: اذا كان فيزيائي كيف ترجعيه؟ قوليل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188640"/>
            <a:ext cx="8964720" cy="666900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ر: مثلا أنا أقولك. مثلا أنا عندي ماي ساخن ودخلته داخل الثلاجة، ما يتكون عندي ثلج. اذا طلعته برا هيرجع سائل مثل ما كان</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صح هيرجع بس الكيميائي ما يرجع</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ذاري: الكيميائي ما ممكن ترجعيه لحالته </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طمة: خلاص قرار فيزيائي</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ما مسألة قرار. احنا نريدك تردي عليهم اذا انتي ما مقتنعة</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رد فاطمة فتنقل الباحثة الحديث الى البيضة</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طمة: تغيرت</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ايش نوع التغير؟</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طمة: البيضة من داخل  تكون سائلة. بعدين لما تحطيها في الماي تزيد درجة الحرارة تجي صلبة </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لكن ما يصلح عاد نحولها لحالتها الأصلية</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260280"/>
            <a:ext cx="8785440" cy="633744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كيميائي، البيض ولا الماي، ايوا انتي كتبتي انه الماي والبيض كيميائي، ايوا زين ذكرتيني نبدا فيكي انتي، ليش اعتبرتي هنا كيميائي؟</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1</a:t>
            </a:r>
            <a:r>
              <a:rPr b="0" lang="ar-OM" sz="2400" spc="-1" strike="noStrike">
                <a:solidFill>
                  <a:srgbClr val="000000"/>
                </a:solidFill>
                <a:latin typeface="Arial"/>
              </a:rPr>
              <a:t>: لانا قلتا أن التغير، هناك أدلة للتغير الكيميائي، فدليل  الفقاعات  تغير كيميائي</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ايوا زين...حد عنده رد عليها، ايوا</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2</a:t>
            </a:r>
            <a:r>
              <a:rPr b="0" lang="ar-OM" sz="2400" spc="-1" strike="noStrike">
                <a:solidFill>
                  <a:srgbClr val="000000"/>
                </a:solidFill>
                <a:latin typeface="Arial"/>
              </a:rPr>
              <a:t>: ظهور الفقاعات يدل ع التغير الكيميائي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يعني تبخر الماي تغير كيميائي؟</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2</a:t>
            </a:r>
            <a:r>
              <a:rPr b="0" lang="ar-OM" sz="2400" spc="-1" strike="noStrike">
                <a:solidFill>
                  <a:srgbClr val="000000"/>
                </a:solidFill>
                <a:latin typeface="Arial"/>
              </a:rPr>
              <a:t>: لا فيزيائي هو تبخر الماي..</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فيه هو الفقاعات..وانتي منى كتبتي كيميائي في الماي، صح؟ ايوا كاتبة منى..ارتفاع درجة حرارة الماي تغير كيميائي، يعني بسبب ارتفاع درجة الحرارة فالماي صار يتبخر وهذا تغير كيميائي.. (تردد وصمت)</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انتي قلتي ظهور الفقاعات دليل ع تغير كيميائي وابتهال قالت.. فهنا فيه فقاعات، كيف تقولوا فيزيائي وفيه فقاعات؟</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ط</a:t>
            </a:r>
            <a:r>
              <a:rPr b="0" lang="ar-OM" sz="2400" spc="-1" strike="noStrike">
                <a:solidFill>
                  <a:srgbClr val="000000"/>
                </a:solidFill>
                <a:latin typeface="Arial"/>
              </a:rPr>
              <a:t>2</a:t>
            </a:r>
            <a:r>
              <a:rPr b="0" lang="ar-OM" sz="2400" spc="-1" strike="noStrike">
                <a:solidFill>
                  <a:srgbClr val="000000"/>
                </a:solidFill>
                <a:latin typeface="Arial"/>
              </a:rPr>
              <a:t>: لا ترا، هو ارتفاع درجة الحرارة أنه البيضة أصلا ، يعني الغاز يعطي حرارة للاناء فالبيضة تاخد الحرارة عشان تتحول ، كبمبائي</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م: خلينا من البيضة، خلينا في الماي، الفقاعات ف الماي</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Arial"/>
              </a:rPr>
              <a:t>ابتهال: الماي تغير كيميائي</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8:33:39Z</dcterms:created>
  <dc:creator>ASMA</dc:creator>
  <dc:description/>
  <dc:language>en-US</dc:language>
  <cp:lastModifiedBy>user</cp:lastModifiedBy>
  <dcterms:modified xsi:type="dcterms:W3CDTF">2008-03-03T19:57:35Z</dcterms:modified>
  <cp:revision>3</cp:revision>
  <dc:subject/>
  <dc:title>Slide 1</dc:title>
</cp:coreProperties>
</file>